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459C-1577-49A8-8AA8-29BDF2439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2219-14AB-4CE6-82DD-03DE419D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6292-DA7D-4811-BD1C-FF72F9CF4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7F99-532A-451B-8860-34EDB67C8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B2DF-EB3C-4B45-8732-215C716F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56C5-3002-47C9-9FD1-95A6D9D2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F16B-F891-4DD1-AF3A-20662854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D974-1E91-4D83-8A9F-7EB6C55C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71F8-9AB2-4251-B799-AECDD34B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7F5C-F98E-48CB-891B-362105A2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8ED0-1180-48F7-8061-B52E8121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E6A7-D03D-49D8-878F-2E07B40C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9944-CCFB-4190-B1C2-2FE84ACF4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 Clase 6nh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28 de may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63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Puedes jugar deportes cuando tienes un resfria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lete with the correct form of the ver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resa _______ futbol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jug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la _______ un partido mañana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en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la _______ jugar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quer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la no _______ perder el partido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po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ella _______ el partido, su equipo no _______ ganar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perder, po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afortunadamente, Teresa _______ un poco enferma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est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-write each sentence using “Nosotro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er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Cultura y lectura: ¿Que le pasa a Adela?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62; en voz al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Comprendes?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63 (1-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B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p.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533520" y="380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6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13:18:18Z</dcterms:created>
  <dc:creator>Helen Zumaeta</dc:creator>
  <dc:description/>
  <dc:language>en-US</dc:language>
  <cp:lastModifiedBy>Helen Zumaeta</cp:lastModifiedBy>
  <cp:lastPrinted>2013-05-13T12:34:08Z</cp:lastPrinted>
  <dcterms:modified xsi:type="dcterms:W3CDTF">2013-05-28T20:46:03Z</dcterms:modified>
  <cp:revision>12</cp:revision>
  <dc:subject/>
  <dc:title>Me llamo _________ Clase 7 im La fecha es el 26 de mayo del 2011</dc:title>
</cp:coreProperties>
</file>